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409-A344-45D2-9B05-73065DF2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7B0-B87D-43C5-BF80-56B0288C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B67-DABA-43D4-8BC3-2B5EAB2A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817-AD4F-4839-BDCD-125CDC7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D0A-EA1F-4334-B213-F2C1A32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0A8-FE47-43F2-A264-3CF63D87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9C3-59CF-4F22-A1D1-FCAF302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D10-832F-4C3A-98AD-C7F2BDD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B3E-A77C-43CE-BF83-023C7170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B40-5DF9-4053-AAF5-C98DD04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4A9-DEE6-4D03-84F8-F7803B9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C97-2384-4C66-A4AE-48BC8B69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0925-9EE0-4760-8F4D-50DE9AA01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70760" y="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7076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443560"/>
            <a:ext cx="1173240" cy="14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alaxy.gmu.edu/~drsuper/fitz/page3frame.html" TargetMode="External"/><Relationship Id="rId2" Type="http://schemas.openxmlformats.org/officeDocument/2006/relationships/hyperlink" Target="http://www.galaxy.gmu.edu/~drsuper/fitz/page4fram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480" y="44956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media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4290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Tiffany Padg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Saunder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680" y="1523880"/>
            <a:ext cx="689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ibrarian"/>
              </a:rPr>
              <a:t>Fun with Geometry and Measurement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ibrarian"/>
              <a:ea typeface="Librari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573-002E-42E1-88F0-806CB701A3F1}" type="slidenum">
              <a:t>1</a:t>
            </a:fld>
          </a:p>
        </p:txBody>
      </p:sp>
    </p:spTree>
  </p:cSld>
  <p:transition spd="med" advTm="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2971800"/>
            <a:ext cx="5410080" cy="3124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00200" y="54097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97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prism with rectangles a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057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Area= 2lw + 2wh + 2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514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ume= leng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d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5740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tangular Pris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923-E107-49B3-B1C4-46E7D8D8C54A}" type="slidenum">
              <a:t>10</a:t>
            </a:fld>
          </a:p>
        </p:txBody>
      </p:sp>
    </p:spTree>
  </p:cSld>
  <p:transition spd="med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62320" y="4343400"/>
            <a:ext cx="175248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276720" y="342900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14800" y="4952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86040" y="342864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572000" y="342900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8769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37920" y="487692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prism with triangle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09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Area= 2(1/2 base · height)* + (bottom)side +(front)side + (back)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49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Multiply by two because you have two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4419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666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= 1/2 · base · height ·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57400" y="457200"/>
            <a:ext cx="510552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angular Prism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36B-35A8-4E19-A69A-CA5DAB826EA7}" type="slidenum">
              <a:t>11</a:t>
            </a:fld>
          </a:p>
        </p:txBody>
      </p:sp>
    </p:spTree>
  </p:cSld>
  <p:transition spd="med" advTm="5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24080" y="3809880"/>
            <a:ext cx="2819520" cy="30481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447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shape in space that has two parallel and congruent circular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267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038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5029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743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Area= π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π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200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ume= π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666880" y="457200"/>
            <a:ext cx="35816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ylinder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26F-B2D0-4695-9EA8-AC011BA95CC1}" type="slidenum">
              <a:t>12</a:t>
            </a:fld>
          </a:p>
        </p:txBody>
      </p:sp>
    </p:spTree>
  </p:cSld>
  <p:transition spd="med" advTm="5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181480" y="3429000"/>
            <a:ext cx="91440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05120" y="3429000"/>
            <a:ext cx="36576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04760" y="533376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905120" y="3200400"/>
            <a:ext cx="327636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8862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orybook"/>
              </a:rPr>
              <a:t>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orybook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shape in space that has a circular base and one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2209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Area= π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π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7880" y="266688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ume= 1/3 π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00400" y="380880"/>
            <a:ext cx="2895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es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A9F-78F0-41C0-85BC-F335FFAD9572}" type="slidenum">
              <a:t>13</a:t>
            </a:fld>
          </a:p>
        </p:txBody>
      </p:sp>
    </p:spTree>
  </p:cSld>
  <p:transition spd="med" advTm="5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95280" y="2909880"/>
            <a:ext cx="3733920" cy="3581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909880"/>
            <a:ext cx="3505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662360"/>
            <a:ext cx="16002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2909880"/>
            <a:ext cx="15264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95280" y="5195880"/>
            <a:ext cx="1981440" cy="129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662360"/>
            <a:ext cx="335268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figure in space with three or more triangular faces and a base in the shape of a polyg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29718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186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6186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6491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/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80880" y="457164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191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743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Area= Length • Width + 4*(1/2 b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334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34290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multiply by 4 because you have 4 triangular fa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3124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ume=1/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L• W •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819520" y="457200"/>
            <a:ext cx="3504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yramid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EE0-3508-44F0-8821-35F5C6C65BF7}" type="slidenum">
              <a:t>14</a:t>
            </a:fld>
          </a:p>
        </p:txBody>
      </p:sp>
    </p:spTree>
  </p:cSld>
  <p:transition spd="med" advTm="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80880"/>
            <a:ext cx="5029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w Let's Try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47920" y="1523880"/>
            <a:ext cx="6400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me Practice Problems 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121-400F-4280-9653-A2F55EE75DD8}" type="slidenum">
              <a:t>15</a:t>
            </a:fld>
          </a:p>
        </p:txBody>
      </p:sp>
    </p:spTree>
  </p:cSld>
  <p:transition spd="med" advTm="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51460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eparate piece of paper, work out problems 1-5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forget the formulas, click on the button with an “I” in the middle and it will give you the list of 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finished, click on the button with the “A” in the center for the correc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any part of the screen to go to the next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362320" y="990720"/>
            <a:ext cx="426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rec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18288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hear the directions, click the sound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DC4-AE81-4071-91FF-54F0886EDBE2}" type="slidenum">
              <a:t>16</a:t>
            </a:fld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47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5120" y="228600"/>
          <a:ext cx="6097320" cy="924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8600"/>
                    <a:ext cx="6097320" cy="924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89548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480060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56386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to return to practice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52320" y="5791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5867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58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5791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168-3EB9-41D5-9AC9-A9B1CAF50720}" type="slidenum">
              <a:t>17</a:t>
            </a:fld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0200" y="3733920"/>
            <a:ext cx="2971800" cy="22860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6668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4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303">
                <a:moveTo>
                  <a:pt x="10800" y="551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303">
                <a:moveTo>
                  <a:pt x="8224" y="9575"/>
                </a:moveTo>
                <a:lnTo>
                  <a:pt x="12088" y="9575"/>
                </a:lnTo>
                <a:lnTo>
                  <a:pt x="12088" y="16573"/>
                </a:lnTo>
                <a:lnTo>
                  <a:pt x="13376" y="16573"/>
                </a:lnTo>
                <a:lnTo>
                  <a:pt x="13376" y="17496"/>
                </a:lnTo>
                <a:lnTo>
                  <a:pt x="8224" y="17496"/>
                </a:lnTo>
                <a:lnTo>
                  <a:pt x="8224" y="16573"/>
                </a:lnTo>
                <a:lnTo>
                  <a:pt x="9512" y="16573"/>
                </a:lnTo>
                <a:lnTo>
                  <a:pt x="9512" y="10480"/>
                </a:lnTo>
                <a:lnTo>
                  <a:pt x="8224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th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286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96080" y="457200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here for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31484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66880" y="10666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Area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F31-EBA5-4E80-B99F-097EE7FDEEE9}" type="slidenum">
              <a:t>18</a:t>
            </a:fld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5120" y="3809880"/>
            <a:ext cx="2971800" cy="22860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1905120" y="274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4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303">
                <a:moveTo>
                  <a:pt x="10800" y="551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303">
                <a:moveTo>
                  <a:pt x="8224" y="9575"/>
                </a:moveTo>
                <a:lnTo>
                  <a:pt x="12088" y="9575"/>
                </a:lnTo>
                <a:lnTo>
                  <a:pt x="12088" y="16573"/>
                </a:lnTo>
                <a:lnTo>
                  <a:pt x="13376" y="16573"/>
                </a:lnTo>
                <a:lnTo>
                  <a:pt x="13376" y="17496"/>
                </a:lnTo>
                <a:lnTo>
                  <a:pt x="8224" y="17496"/>
                </a:lnTo>
                <a:lnTo>
                  <a:pt x="8224" y="16573"/>
                </a:lnTo>
                <a:lnTo>
                  <a:pt x="9512" y="16573"/>
                </a:lnTo>
                <a:lnTo>
                  <a:pt x="9512" y="10480"/>
                </a:lnTo>
                <a:lnTo>
                  <a:pt x="8224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133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th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342900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=l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2•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96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66880" y="1143000"/>
            <a:ext cx="3733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Area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9F2-73FF-472C-BABB-62F8A9A4E1C6}" type="slidenum">
              <a:t>19</a:t>
            </a:fld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676520"/>
            <a:ext cx="85345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8.8 The student will investigate and solve problems involving volume and surface area of cones and pyramids, using concrete materials and practical sit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8.10 The student will describe, classify, and construct plane figures and solid figures, including prisms, pyramids, cylinders, and c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7.9 The student will investigate and solve problems involving the volume and surface area of a rectangular prisms and cylinders, using concrete materials and practical situations to develop form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533520"/>
            <a:ext cx="6095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irginia Standards of Learning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0DB-2333-499A-9BB6-9EE8AFC1A94C}" type="slidenum">
              <a:t>2</a:t>
            </a:fld>
          </a:p>
        </p:txBody>
      </p:sp>
    </p:spTree>
  </p:cSld>
  <p:transition spd="med" advTm="5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24080" y="571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4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303">
                <a:moveTo>
                  <a:pt x="10800" y="551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303">
                <a:moveTo>
                  <a:pt x="8224" y="9575"/>
                </a:moveTo>
                <a:lnTo>
                  <a:pt x="12088" y="9575"/>
                </a:lnTo>
                <a:lnTo>
                  <a:pt x="12088" y="16573"/>
                </a:lnTo>
                <a:lnTo>
                  <a:pt x="13376" y="16573"/>
                </a:lnTo>
                <a:lnTo>
                  <a:pt x="13376" y="17496"/>
                </a:lnTo>
                <a:lnTo>
                  <a:pt x="8224" y="17496"/>
                </a:lnTo>
                <a:lnTo>
                  <a:pt x="8224" y="16573"/>
                </a:lnTo>
                <a:lnTo>
                  <a:pt x="9512" y="16573"/>
                </a:lnTo>
                <a:lnTo>
                  <a:pt x="9512" y="10480"/>
                </a:lnTo>
                <a:lnTo>
                  <a:pt x="8224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133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th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3581280"/>
            <a:ext cx="4114800" cy="2057400"/>
          </a:xfrm>
          <a:prstGeom prst="flowChartManualOpe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/>
          <p:nvPr/>
        </p:nvCxnSpPr>
        <p:spPr>
          <a:xfrm>
            <a:off x="3657240" y="358092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36576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419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752480" y="449568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6035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8098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39152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36576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here for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9680" y="838080"/>
            <a:ext cx="48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Area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CD8-6A3D-4899-B59C-7F85D5A12497}" type="slidenum">
              <a:t>20</a:t>
            </a:fld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124080" y="571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990720" y="274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4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303">
                <a:moveTo>
                  <a:pt x="10800" y="551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303">
                <a:moveTo>
                  <a:pt x="8224" y="9575"/>
                </a:moveTo>
                <a:lnTo>
                  <a:pt x="12088" y="9575"/>
                </a:lnTo>
                <a:lnTo>
                  <a:pt x="12088" y="16573"/>
                </a:lnTo>
                <a:lnTo>
                  <a:pt x="13376" y="16573"/>
                </a:lnTo>
                <a:lnTo>
                  <a:pt x="13376" y="17496"/>
                </a:lnTo>
                <a:lnTo>
                  <a:pt x="8224" y="17496"/>
                </a:lnTo>
                <a:lnTo>
                  <a:pt x="8224" y="16573"/>
                </a:lnTo>
                <a:lnTo>
                  <a:pt x="9512" y="16573"/>
                </a:lnTo>
                <a:lnTo>
                  <a:pt x="9512" y="10480"/>
                </a:lnTo>
                <a:lnTo>
                  <a:pt x="8224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133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th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581280"/>
            <a:ext cx="4114800" cy="2057400"/>
          </a:xfrm>
          <a:prstGeom prst="flowChartManualOpe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/>
          <p:nvPr/>
        </p:nvCxnSpPr>
        <p:spPr>
          <a:xfrm>
            <a:off x="3657240" y="358092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36576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419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52480" y="449568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6035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3429000"/>
            <a:ext cx="2438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1/2(a+b)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2(12+15)•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2(27) •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2(27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5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19520" y="7621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Area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D70-5834-4309-B782-155E686A3151}" type="slidenum">
              <a:t>21</a:t>
            </a:fld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0720" y="274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4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303">
                <a:moveTo>
                  <a:pt x="10800" y="551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303">
                <a:moveTo>
                  <a:pt x="8224" y="9575"/>
                </a:moveTo>
                <a:lnTo>
                  <a:pt x="12088" y="9575"/>
                </a:lnTo>
                <a:lnTo>
                  <a:pt x="12088" y="16573"/>
                </a:lnTo>
                <a:lnTo>
                  <a:pt x="13376" y="16573"/>
                </a:lnTo>
                <a:lnTo>
                  <a:pt x="13376" y="17496"/>
                </a:lnTo>
                <a:lnTo>
                  <a:pt x="8224" y="17496"/>
                </a:lnTo>
                <a:lnTo>
                  <a:pt x="8224" y="16573"/>
                </a:lnTo>
                <a:lnTo>
                  <a:pt x="9512" y="16573"/>
                </a:lnTo>
                <a:lnTo>
                  <a:pt x="9512" y="10480"/>
                </a:lnTo>
                <a:lnTo>
                  <a:pt x="8224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133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th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354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464000"/>
            <a:ext cx="175248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743200" y="354960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581280" y="50731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952520" y="354924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38480" y="354960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4997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05120" y="4997520"/>
            <a:ext cx="213336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4540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6064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6064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6521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5759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3549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38545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0400" y="38545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52261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2200" y="34290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3429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the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85764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905120" y="990720"/>
            <a:ext cx="5029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Surface Area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0FA-2806-42B1-8A97-8DFECE700934}" type="slidenum">
              <a:t>22</a:t>
            </a:fld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990720" y="274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4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303">
                <a:moveTo>
                  <a:pt x="10800" y="551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303">
                <a:moveTo>
                  <a:pt x="8224" y="9575"/>
                </a:moveTo>
                <a:lnTo>
                  <a:pt x="12088" y="9575"/>
                </a:lnTo>
                <a:lnTo>
                  <a:pt x="12088" y="16573"/>
                </a:lnTo>
                <a:lnTo>
                  <a:pt x="13376" y="16573"/>
                </a:lnTo>
                <a:lnTo>
                  <a:pt x="13376" y="17496"/>
                </a:lnTo>
                <a:lnTo>
                  <a:pt x="8224" y="17496"/>
                </a:lnTo>
                <a:lnTo>
                  <a:pt x="8224" y="16573"/>
                </a:lnTo>
                <a:lnTo>
                  <a:pt x="9512" y="16573"/>
                </a:lnTo>
                <a:lnTo>
                  <a:pt x="9512" y="10480"/>
                </a:lnTo>
                <a:lnTo>
                  <a:pt x="8224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133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th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343400"/>
            <a:ext cx="175248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362320" y="342900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200400" y="4952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571640" y="342864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657600" y="342900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48769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523520" y="487692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4419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65214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3429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37339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19160" y="3733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5105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3429000"/>
            <a:ext cx="32004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=2(1/2 bh)+side+side+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(1/2•6 •14)+10•6+10•5+10•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( 42)+60+50+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84+60+50+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44 f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133720" y="762120"/>
            <a:ext cx="480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Surface Area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69E-D953-40DE-AB4F-C102C18738B1}" type="slidenum">
              <a:t>23</a:t>
            </a:fld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71600" y="2590920"/>
            <a:ext cx="5410080" cy="3124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371600" y="50288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5029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25909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579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523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283536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86600" y="2835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06668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1447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29113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7696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514600" y="380880"/>
            <a:ext cx="44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Volume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C16-02EE-48D3-8C47-51A3F9565780}" type="slidenum">
              <a:t>24</a:t>
            </a:fld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90720" y="2362320"/>
            <a:ext cx="5410080" cy="3124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990720" y="480024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48006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380880" y="1523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43800" y="23623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l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5•3.5•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70 i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981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666880" y="457200"/>
            <a:ext cx="3886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Volume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370-6EBC-4932-842E-A569243B9753}" type="slidenum">
              <a:t>25</a:t>
            </a:fld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0880" y="1523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3200400"/>
            <a:ext cx="2819160" cy="30481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y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y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743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26989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here for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06668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447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14600" y="533520"/>
            <a:ext cx="41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Volume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3EE-3C46-4474-8C23-B688C886C5C2}" type="slidenum">
              <a:t>26</a:t>
            </a:fld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380880" y="1523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666880"/>
            <a:ext cx="2819520" cy="30481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y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200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3886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y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43600" y="2971800"/>
            <a:ext cx="32004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=π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.14•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.14•9•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4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90920" y="762120"/>
            <a:ext cx="41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 the Volume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89D-E928-46E2-8796-BD3121584809}" type="slidenum">
              <a:t>27</a:t>
            </a:fld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43000" y="990720"/>
            <a:ext cx="70102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Ready for some more practice????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203-9A97-4D25-AF22-4DABF4D457FC}" type="slidenum">
              <a:t>28</a:t>
            </a:fld>
          </a:p>
        </p:txBody>
      </p:sp>
    </p:spTree>
  </p:cSld>
  <p:transition spd="med" advTm="5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19320" y="1066680"/>
            <a:ext cx="6629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Check out this website for interactive fu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Courtesy of George Mason University MetaMedia Mathematic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1"/>
          </p:cNvPr>
          <p:cNvSpPr/>
          <p:nvPr/>
        </p:nvSpPr>
        <p:spPr>
          <a:xfrm>
            <a:off x="2057400" y="3809880"/>
            <a:ext cx="5410080" cy="762120"/>
          </a:xfrm>
          <a:custGeom>
            <a:avLst/>
            <a:gdLst>
              <a:gd name="textAreaLeft" fmla="*/ 49320 w 5410080"/>
              <a:gd name="textAreaRight" fmla="*/ 5360760 w 5410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3270" h="21600">
                <a:moveTo>
                  <a:pt x="0" y="0"/>
                </a:moveTo>
                <a:lnTo>
                  <a:pt x="153270" y="0"/>
                </a:lnTo>
                <a:lnTo>
                  <a:pt x="153270" y="21600"/>
                </a:lnTo>
                <a:lnTo>
                  <a:pt x="0" y="21600"/>
                </a:lnTo>
                <a:close/>
              </a:path>
              <a:path fill="lightenLess" w="153270" h="21600">
                <a:moveTo>
                  <a:pt x="0" y="0"/>
                </a:moveTo>
                <a:lnTo>
                  <a:pt x="153270" y="0"/>
                </a:lnTo>
                <a:lnTo>
                  <a:pt x="151870" y="1400"/>
                </a:lnTo>
                <a:lnTo>
                  <a:pt x="1400" y="1400"/>
                </a:lnTo>
                <a:close/>
              </a:path>
              <a:path fill="darken" w="153270" h="21600">
                <a:moveTo>
                  <a:pt x="153270" y="0"/>
                </a:moveTo>
                <a:lnTo>
                  <a:pt x="153270" y="21600"/>
                </a:lnTo>
                <a:lnTo>
                  <a:pt x="151870" y="20200"/>
                </a:lnTo>
                <a:lnTo>
                  <a:pt x="151870" y="1400"/>
                </a:lnTo>
                <a:close/>
              </a:path>
              <a:path fill="darkenLess" w="153270" h="21600">
                <a:moveTo>
                  <a:pt x="153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870" y="20200"/>
                </a:lnTo>
                <a:close/>
              </a:path>
              <a:path fill="lighten" w="153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3962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M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2"/>
          </p:cNvPr>
          <p:cNvSpPr/>
          <p:nvPr/>
        </p:nvSpPr>
        <p:spPr>
          <a:xfrm>
            <a:off x="2057400" y="5029200"/>
            <a:ext cx="5410080" cy="762120"/>
          </a:xfrm>
          <a:custGeom>
            <a:avLst/>
            <a:gdLst>
              <a:gd name="textAreaLeft" fmla="*/ 49320 w 5410080"/>
              <a:gd name="textAreaRight" fmla="*/ 5360760 w 5410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3270" h="21600">
                <a:moveTo>
                  <a:pt x="0" y="0"/>
                </a:moveTo>
                <a:lnTo>
                  <a:pt x="153270" y="0"/>
                </a:lnTo>
                <a:lnTo>
                  <a:pt x="153270" y="21600"/>
                </a:lnTo>
                <a:lnTo>
                  <a:pt x="0" y="21600"/>
                </a:lnTo>
                <a:close/>
              </a:path>
              <a:path fill="lightenLess" w="153270" h="21600">
                <a:moveTo>
                  <a:pt x="0" y="0"/>
                </a:moveTo>
                <a:lnTo>
                  <a:pt x="153270" y="0"/>
                </a:lnTo>
                <a:lnTo>
                  <a:pt x="151870" y="1400"/>
                </a:lnTo>
                <a:lnTo>
                  <a:pt x="1400" y="1400"/>
                </a:lnTo>
                <a:close/>
              </a:path>
              <a:path fill="darken" w="153270" h="21600">
                <a:moveTo>
                  <a:pt x="153270" y="0"/>
                </a:moveTo>
                <a:lnTo>
                  <a:pt x="153270" y="21600"/>
                </a:lnTo>
                <a:lnTo>
                  <a:pt x="151870" y="20200"/>
                </a:lnTo>
                <a:lnTo>
                  <a:pt x="151870" y="1400"/>
                </a:lnTo>
                <a:close/>
              </a:path>
              <a:path fill="darkenLess" w="153270" h="21600">
                <a:moveTo>
                  <a:pt x="153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870" y="20200"/>
                </a:lnTo>
                <a:close/>
              </a:path>
              <a:path fill="lighten" w="153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181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M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2590920"/>
            <a:ext cx="5334120" cy="838080"/>
          </a:xfrm>
          <a:custGeom>
            <a:avLst/>
            <a:gdLst>
              <a:gd name="textAreaLeft" fmla="*/ 54000 w 5334120"/>
              <a:gd name="textAreaRight" fmla="*/ 5280120 w 5334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37428" h="21600">
                <a:moveTo>
                  <a:pt x="0" y="0"/>
                </a:moveTo>
                <a:lnTo>
                  <a:pt x="137428" y="0"/>
                </a:lnTo>
                <a:lnTo>
                  <a:pt x="137428" y="21600"/>
                </a:lnTo>
                <a:lnTo>
                  <a:pt x="0" y="21600"/>
                </a:lnTo>
                <a:close/>
              </a:path>
              <a:path fill="lightenLess" w="137428" h="21600">
                <a:moveTo>
                  <a:pt x="0" y="0"/>
                </a:moveTo>
                <a:lnTo>
                  <a:pt x="137428" y="0"/>
                </a:lnTo>
                <a:lnTo>
                  <a:pt x="136028" y="1400"/>
                </a:lnTo>
                <a:lnTo>
                  <a:pt x="1400" y="1400"/>
                </a:lnTo>
                <a:close/>
              </a:path>
              <a:path fill="darken" w="137428" h="21600">
                <a:moveTo>
                  <a:pt x="137428" y="0"/>
                </a:moveTo>
                <a:lnTo>
                  <a:pt x="137428" y="21600"/>
                </a:lnTo>
                <a:lnTo>
                  <a:pt x="136028" y="20200"/>
                </a:lnTo>
                <a:lnTo>
                  <a:pt x="136028" y="1400"/>
                </a:lnTo>
                <a:close/>
              </a:path>
              <a:path fill="darkenLess" w="137428" h="21600">
                <a:moveTo>
                  <a:pt x="137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028" y="20200"/>
                </a:lnTo>
                <a:close/>
              </a:path>
              <a:path fill="lighten" w="137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2743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M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4AF-50E5-46CF-A7F4-17558A8E032F}" type="slidenum">
              <a:t>29</a:t>
            </a:fld>
          </a:p>
        </p:txBody>
      </p:sp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00400" y="4572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rpos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8763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The purpose of the presentation is to provide middle school students with an interactive way to learn how to solve problems involving area, surface area, and vol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5CC-E6C9-4062-9B0F-E0C83D9E66DB}" type="slidenum">
              <a:t>3</a:t>
            </a:fld>
          </a:p>
        </p:txBody>
      </p:sp>
    </p:spTree>
  </p:cSld>
  <p:transition spd="med" advTm="5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09680" y="457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ill Want More??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90920" y="1447920"/>
            <a:ext cx="4295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ck out these sites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2819520"/>
            <a:ext cx="4114800" cy="609480"/>
          </a:xfrm>
          <a:custGeom>
            <a:avLst/>
            <a:gdLst>
              <a:gd name="textAreaLeft" fmla="*/ 39240 w 4114800"/>
              <a:gd name="textAreaRight" fmla="*/ 4075560 w 4114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5755" h="21600">
                <a:moveTo>
                  <a:pt x="0" y="0"/>
                </a:moveTo>
                <a:lnTo>
                  <a:pt x="145755" y="0"/>
                </a:lnTo>
                <a:lnTo>
                  <a:pt x="145755" y="21600"/>
                </a:lnTo>
                <a:lnTo>
                  <a:pt x="0" y="21600"/>
                </a:lnTo>
                <a:close/>
              </a:path>
              <a:path fill="lightenLess" w="145755" h="21600">
                <a:moveTo>
                  <a:pt x="0" y="0"/>
                </a:moveTo>
                <a:lnTo>
                  <a:pt x="145755" y="0"/>
                </a:lnTo>
                <a:lnTo>
                  <a:pt x="144355" y="1400"/>
                </a:lnTo>
                <a:lnTo>
                  <a:pt x="1400" y="1400"/>
                </a:lnTo>
                <a:close/>
              </a:path>
              <a:path fill="darken" w="145755" h="21600">
                <a:moveTo>
                  <a:pt x="145755" y="0"/>
                </a:moveTo>
                <a:lnTo>
                  <a:pt x="145755" y="21600"/>
                </a:lnTo>
                <a:lnTo>
                  <a:pt x="144355" y="20200"/>
                </a:lnTo>
                <a:lnTo>
                  <a:pt x="144355" y="1400"/>
                </a:lnTo>
                <a:close/>
              </a:path>
              <a:path fill="darkenLess" w="145755" h="21600">
                <a:moveTo>
                  <a:pt x="145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355" y="20200"/>
                </a:lnTo>
                <a:close/>
              </a:path>
              <a:path fill="lighten" w="145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2971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y J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3886200"/>
            <a:ext cx="3962160" cy="685800"/>
          </a:xfrm>
          <a:custGeom>
            <a:avLst/>
            <a:gdLst>
              <a:gd name="textAreaLeft" fmla="*/ 44280 w 3962160"/>
              <a:gd name="textAreaRight" fmla="*/ 3917880 w 3962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4738" h="21600">
                <a:moveTo>
                  <a:pt x="0" y="0"/>
                </a:moveTo>
                <a:lnTo>
                  <a:pt x="124738" y="0"/>
                </a:lnTo>
                <a:lnTo>
                  <a:pt x="124738" y="21600"/>
                </a:lnTo>
                <a:lnTo>
                  <a:pt x="0" y="21600"/>
                </a:lnTo>
                <a:close/>
              </a:path>
              <a:path fill="lightenLess" w="124738" h="21600">
                <a:moveTo>
                  <a:pt x="0" y="0"/>
                </a:moveTo>
                <a:lnTo>
                  <a:pt x="124738" y="0"/>
                </a:lnTo>
                <a:lnTo>
                  <a:pt x="123338" y="1400"/>
                </a:lnTo>
                <a:lnTo>
                  <a:pt x="1400" y="1400"/>
                </a:lnTo>
                <a:close/>
              </a:path>
              <a:path fill="darken" w="124738" h="21600">
                <a:moveTo>
                  <a:pt x="124738" y="0"/>
                </a:moveTo>
                <a:lnTo>
                  <a:pt x="124738" y="21600"/>
                </a:lnTo>
                <a:lnTo>
                  <a:pt x="123338" y="20200"/>
                </a:lnTo>
                <a:lnTo>
                  <a:pt x="123338" y="1400"/>
                </a:lnTo>
                <a:close/>
              </a:path>
              <a:path fill="darkenLess" w="124738" h="21600">
                <a:moveTo>
                  <a:pt x="12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38" y="20200"/>
                </a:lnTo>
                <a:close/>
              </a:path>
              <a:path fill="lighten" w="12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3962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A24-3669-44BA-A965-B8CF22313E18}" type="slidenum">
              <a:t>30</a:t>
            </a:fld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828800" y="60948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ditional Activ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905120"/>
            <a:ext cx="8839080" cy="59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ester"/>
              </a:rPr>
              <a:t>Merrill’s Pre-Algebra Book Chapter 13 Measuring Area and Volume</a:t>
            </a: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Practice Problems in the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Practice Workshe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ester"/>
              </a:rPr>
              <a:t>Other Activ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Students can draw and color pictures using 15 different geometric sha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Students can create paper nets of different figures for a more concrete representation of sha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Students can make a slit book of all formulas and pictures of the geometric sha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2C3-CB1A-459B-B4AE-9E130F51E7AA}" type="slidenum">
              <a:t>31</a:t>
            </a:fld>
          </a:p>
        </p:txBody>
      </p:sp>
    </p:spTree>
  </p:cSld>
  <p:transition spd="med" advTm="5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295280" y="316692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E6F-76AD-47A2-8749-7F5F558CEE93}" type="slidenum">
              <a:t>32</a:t>
            </a:fld>
          </a:p>
        </p:txBody>
      </p:sp>
    </p:spTree>
  </p:cSld>
  <p:transition spd="med"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1676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parallelogram with all sides congruent and all angles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86200"/>
            <a:ext cx="29718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4724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324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2971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rea= leng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97076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970760" y="0"/>
            <a:ext cx="1173240" cy="141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352680" y="457200"/>
            <a:ext cx="2362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QUA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AC5-61E0-4148-BF44-A9F24355989B}" type="slidenum">
              <a:t>4</a:t>
            </a:fld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43200" y="449568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5257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1600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parallelogram with all angles congru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429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rea= leng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97076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970760" y="0"/>
            <a:ext cx="1173240" cy="141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743200" y="685800"/>
            <a:ext cx="373392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tangle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606-9AAF-4033-A493-F60C8F61AB41}" type="slidenum">
              <a:t>5</a:t>
            </a:fld>
          </a:p>
        </p:txBody>
      </p:sp>
    </p:spTree>
  </p:cSld>
  <p:transition spd="med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3429000"/>
            <a:ext cx="3962160" cy="2057400"/>
          </a:xfrm>
          <a:prstGeom prst="parallelogram">
            <a:avLst>
              <a:gd name="adj" fmla="val 4814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2952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orybook"/>
              </a:rPr>
              <a:t>A quadrilateral with two pairs of parallel s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429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562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4191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666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rea= B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97076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970760" y="0"/>
            <a:ext cx="1173240" cy="1414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514600" y="609480"/>
            <a:ext cx="419112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ogram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F67-E0CA-4810-991B-0108BF92361B}" type="slidenum">
              <a:t>6</a:t>
            </a:fld>
          </a:p>
        </p:txBody>
      </p:sp>
    </p:spTree>
  </p:cSld>
  <p:transition spd="med" advTm="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905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polygon* having three si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94216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*Polygon: a simple closed figure in a plane formed by three or more line seg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666880"/>
            <a:ext cx="3276720" cy="221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0"/>
            <a:endCxn id="87" idx="3"/>
          </p:cNvCxnSpPr>
          <p:nvPr/>
        </p:nvCxnSpPr>
        <p:spPr>
          <a:xfrm>
            <a:off x="4609800" y="2666520"/>
            <a:ext cx="1080" cy="221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4572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5029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733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657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rea= 1/2 b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97076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443560"/>
            <a:ext cx="1173240" cy="14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970760" y="0"/>
            <a:ext cx="1173240" cy="14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819520" y="685800"/>
            <a:ext cx="335268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angle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09D-F01C-4EA3-B6AE-F42040F9A8AF}" type="slidenum">
              <a:t>7</a:t>
            </a:fld>
          </a:p>
        </p:txBody>
      </p:sp>
    </p:spTree>
  </p:cSld>
  <p:transition spd="med"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34290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886200"/>
            <a:ext cx="4114800" cy="205740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571640" y="388584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57200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724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943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600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A quadrilateral with exactly one pair of parallel l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971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rea= 1/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 height (a 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66880" y="533520"/>
            <a:ext cx="358164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pezoid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AEC-FFCD-46C3-B203-A1C93BEBE892}" type="slidenum">
              <a:t>8</a:t>
            </a:fld>
          </a:p>
        </p:txBody>
      </p:sp>
    </p:spTree>
  </p:cSld>
  <p:transition spd="med"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1600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rybook"/>
              </a:rPr>
              <a:t>The set of all points in a plane that are the same distance from a given point called the c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124080"/>
            <a:ext cx="3200400" cy="274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37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= π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8120" y="685800"/>
            <a:ext cx="289548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rcle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B41-C55C-487E-82C7-A36EFD210C1F}" type="slidenum">
              <a:t>9</a:t>
            </a:fld>
          </a:p>
        </p:txBody>
      </p:sp>
    </p:spTree>
  </p:cSld>
  <p:transition spd="med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16:19:22Z</dcterms:created>
  <dc:creator>TPadgett</dc:creator>
  <dc:description/>
  <dc:language>en-US</dc:language>
  <cp:lastModifiedBy>Lynda Claspy</cp:lastModifiedBy>
  <dcterms:modified xsi:type="dcterms:W3CDTF">2000-12-06T14:44:55Z</dcterms:modified>
  <cp:revision>41</cp:revision>
  <dc:subject/>
  <dc:title>No Slide Title</dc:title>
</cp:coreProperties>
</file>